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52013"/>
</p:presentation>
</file>

<file path=ppt/commentAuthors.xml><?xml version="1.0" encoding="utf-8"?>
<p:cmAuthorLst xmlns:p="http://schemas.openxmlformats.org/presentationml/2006/main">
  <p:cmAuthor id="0" name="Аня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7-04-16T17:10:54.484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368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7D34-48BE-4B39-97B4-129B9EE0215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Закаливание организма и     его влияние  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9B81-D515-4CCB-BEA5-B12E6A7D33B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00"/>
                </a:solidFill>
                <a:uFillTx/>
                <a:latin typeface="Times New Roman"/>
              </a:rPr>
              <a:t>ВОЗДУШНЫЕ ВАН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33"/>
                </a:solidFill>
                <a:latin typeface="Tunga"/>
              </a:rPr>
              <a:t>Этот тип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</a:t>
            </a:r>
            <a:r>
              <a:rPr b="0" i="1" lang="ru-RU" sz="1200" spc="-1" strike="noStrike">
                <a:solidFill>
                  <a:srgbClr val="003300"/>
                </a:solidFill>
                <a:latin typeface="Tung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7223-1B3F-4DB1-9AB7-F830CF6E83C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00"/>
                </a:solidFill>
                <a:uFillTx/>
                <a:latin typeface="Calibri"/>
              </a:rPr>
              <a:t>ОБТИ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роцедура обтирания: полотен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губку или специальн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рукавичку из материи сма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в воде и слегка отжим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Затем последова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роизводят обтирание р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(в направлении от пальцев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лечам), шеи, груди, живо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спины и ног. После этого т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растирают сухим жёстким полотенцем до покраснения и появления приятного ощущения тепл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97A5-6B04-4E3F-BC33-84ACA27487F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ЖДЕНИЕ БОС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ig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Gigi"/>
              </a:rPr>
              <a:t>Хождение босиком испокон веков использовалась для профилактики и лечения многих заболеваний. Современная наука подтверждает пользу босохождения. Прогулка по свежему снегу на первых порах должна быть не более 2 – 4 минут. Ходьба босиком – это сильнейшее профилактическое и целительное средство, одна из составляющих системы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0341-A5E3-4EFE-8FF7-90BADF923A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Showcard Gothic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Showcard Gothic"/>
              </a:rPr>
              <a:t>Закаливание – это повышение устойчивости организма к неблагоприятному воздействию ряда факторов окружающей среды (низкой или высокой температуры) путём систематического воздействия на организм эти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Showcard Gothic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Showcard Gothic"/>
              </a:rPr>
              <a:t>В основе закаливания лежит способность организма человека приспосабливаться меняющимся условием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D604-DB7A-4027-BEA1-C4D1A0A5BAF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unga"/>
              </a:rPr>
              <a:t>  </a:t>
            </a:r>
            <a:r>
              <a:rPr b="1" i="1" lang="ru-RU" sz="1200" spc="-1" strike="noStrike">
                <a:solidFill>
                  <a:srgbClr val="ffff00"/>
                </a:solidFill>
                <a:latin typeface="Shruti"/>
              </a:rPr>
              <a:t>Использование закаливающих процедур было известно человеку ещё в древние времена. Им в укреплении здоровья отводил большую роль Гиппократ (древнегреческий врач, реформатор античной медицины). По его мнению, особой целительной силой обладают холодовые закаливающие процедуры, а те, кто держит тело в тепле, приобретают изнеженность мышц, слабость нервов, обмороки и кровоте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DEB3-4DF0-42A0-AC64-B1E9974749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unga"/>
              </a:rPr>
              <a:t>ОБ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unga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Tunga"/>
              </a:rPr>
              <a:t>Хорошим методом закаливания является обливание холодной водой. Для этого берут 2 – 3 ведра холодной воды желаемой температуры и выливают на всё тело. Основную роль при обливании играет температурное раздражение кожи, рефлекторно оказывает тонизирующее, дыхание. После обливания тело необходимо обтереть сухим полотенц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4A08-D180-47D1-A40D-C45ED3ED427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ff"/>
                </a:solidFill>
                <a:uFillTx/>
                <a:latin typeface="Calibri"/>
              </a:rPr>
              <a:t>Правила закаливания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 системати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   индивидуальные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652A-CF51-424D-A416-39FF1824E8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00"/>
                </a:solidFill>
                <a:uFillTx/>
                <a:latin typeface="Tunga"/>
              </a:rPr>
              <a:t>КУПАНИЕ В ОТКРЫТЫХ ВОДОЁ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00"/>
                </a:solidFill>
                <a:latin typeface="Tung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8AF7-6841-41CE-A138-F3D09A2BFFF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Tunga"/>
              </a:rPr>
              <a:t>МОРЖЕ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9900"/>
                </a:solidFill>
                <a:latin typeface="Tunga"/>
              </a:rPr>
              <a:t>  </a:t>
            </a:r>
            <a:r>
              <a:rPr b="0" i="1" lang="ru-RU" sz="1200" spc="-1" strike="noStrike">
                <a:solidFill>
                  <a:srgbClr val="ff6600"/>
                </a:solidFill>
                <a:latin typeface="Tunga"/>
              </a:rPr>
              <a:t>Наиболее эффективной водной процедурой является купание в ледяной воде. Однако подготовка к этому требует специальной тренировки и знаний физиологических процессов, проходящих в организме человека при купании в ледяной воде. Это высшая форма закаливания, так как в короткое время подключает к борьбе «за выживание» все орган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674E-E513-43C6-8980-17F22493587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unga"/>
              </a:rPr>
              <a:t>СОЛНЕЧНЫЕ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Tunga"/>
              </a:rPr>
              <a:t>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unga"/>
              </a:rPr>
              <a:t>ВАН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00"/>
                </a:solidFill>
                <a:latin typeface="Tunga"/>
              </a:rPr>
              <a:t>Этот тип закаливания следует принимать разумно, иначе вместо пользы они могут вызвать ожоги кожи, перегрев организма, солнечный удар, перевозбуждение нервной системы. Прием солнечных ванн целесообразно сочетать с водными процедурами. После приёма рекомендуется 10 – 15 минут побыть в тени, а затем принять душ или искуп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BF92-F8A1-4D53-A4D7-891472C7E4F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8F7-1871-4E1B-81A9-F7D8A595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E68-A3F8-4EDC-917D-763A7D5A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411-531B-4DB6-9E81-1D46A47B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6AD-842C-435F-B3D3-4A9A6102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C52-D138-4941-9DDC-E54C3422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EC1-6458-4672-86AB-8368D6B8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DFA-1BBD-4646-BD9A-058F814C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200C-D55C-420C-9E83-9EA469CB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1BF-9E97-40AB-9B63-02A48468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666-A6F6-4DB2-AE79-9A0F2320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3E7-870B-4A93-B7F1-B17F0B9C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2E0-C986-4B71-AABC-0ACD425C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CF7B-913A-434E-BC9C-942D16AA4E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9956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Tahoma"/>
              </a:rPr>
              <a:t>Закаливание организма и     его влияние   на здоровье чело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4211640" y="620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РЕЗЕНТАЦИЯ</a:t>
            </a:r>
            <a:endParaRPr b="1" lang="en-US" sz="1800" spc="1" strike="noStrike">
              <a:ln w="25560">
                <a:solidFill>
                  <a:srgbClr val="3333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724280" y="579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оставила учитель ОБЖ МОУ СОШ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№2 Ковынёва Е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ff00"/>
                </a:solidFill>
                <a:uFillTx/>
                <a:latin typeface="Times New Roman"/>
              </a:rPr>
              <a:t>ВОЗДУШНЫЕ ВАН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ff33"/>
                </a:solidFill>
                <a:latin typeface="Tunga"/>
              </a:rPr>
              <a:t>Этот тип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</a:t>
            </a:r>
            <a:r>
              <a:rPr b="0" i="1" lang="ru-RU" sz="3200" spc="-1" strike="noStrike">
                <a:solidFill>
                  <a:srgbClr val="003300"/>
                </a:solidFill>
                <a:latin typeface="Tung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00"/>
                </a:solidFill>
                <a:uFillTx/>
                <a:latin typeface="Tahoma"/>
              </a:rPr>
              <a:t>ОБТИР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893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цедура обтирания: полотенц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губку или специальну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укавичку из материи смачи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в воде и слегка отжима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Затем последователь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изводят обтирание ру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(в направлении от пальцев 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лечам), шеи, груди, живо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спины и ног. После этого те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астирают сухим жёстким полотенцем до покраснения и появления приятного ощущения тепл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6227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ХОЖДЕНИЕ БОСИК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58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Хождение босиком испокон веков использовалась для профилактики и лечения многих заболеваний. Современная наука подтверждает пользу босохождения. Прогулка по свежему снегу на первых порах должна быть не более 2 – 4 минут. Ходьба босиком – это сильнейшее профилактическое и целительное средство, одна из составляющих системы здорового образа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79280" y="5589720"/>
            <a:ext cx="878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им за внимание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35164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Закаливание – это повышение устойчивости организма к неблагоприятному воздействию ряда факторов окружающей среды (низкой или высокой температуры) путём систематического воздействия на организм этих факто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4149720"/>
            <a:ext cx="8748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В основе закаливания лежит способность организма человека приспосабливаться меняющимся условием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6868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unga"/>
              </a:rPr>
              <a:t>  </a:t>
            </a:r>
            <a:r>
              <a:rPr b="1" i="1" lang="ru-RU" sz="3200" spc="-1" strike="noStrike">
                <a:solidFill>
                  <a:srgbClr val="ffff00"/>
                </a:solidFill>
                <a:latin typeface="Shruti"/>
              </a:rPr>
              <a:t>Использование закаливающих процедур было известно человеку ещё в древние времена. Им в укреплении здоровья отводил большую роль Гиппократ (древнегреческий врач, реформатор античной медицины). По его мнению, особой целительной силой обладают холодовые закаливающие процедуры, а те, кто держит тело в тепле, приобретают изнеженность мышц, слабость нервов, обмороки и кровотеч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16"/>
          <p:cNvGrpSpPr/>
          <p:nvPr/>
        </p:nvGrpSpPr>
        <p:grpSpPr>
          <a:xfrm>
            <a:off x="0" y="0"/>
            <a:ext cx="9142560" cy="6857640"/>
            <a:chOff x="0" y="0"/>
            <a:chExt cx="9142560" cy="685764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2742120" y="595440"/>
              <a:ext cx="914760" cy="5963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2742120" y="595440"/>
              <a:ext cx="914760" cy="5069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2742120" y="595440"/>
              <a:ext cx="914760" cy="417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" name="_s1031"/>
            <p:cNvCxnSpPr>
              <a:stCxn id="66" idx="1"/>
              <a:endCxn id="60" idx="2"/>
            </p:cNvCxnSpPr>
            <p:nvPr/>
          </p:nvCxnSpPr>
          <p:spPr>
            <a:xfrm rot="10800000">
              <a:off x="2742120" y="595440"/>
              <a:ext cx="914760" cy="328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" name="_s1032"/>
            <p:cNvCxnSpPr>
              <a:stCxn id="68" idx="1"/>
              <a:endCxn id="60" idx="2"/>
            </p:cNvCxnSpPr>
            <p:nvPr/>
          </p:nvCxnSpPr>
          <p:spPr>
            <a:xfrm rot="10800000">
              <a:off x="2742120" y="595440"/>
              <a:ext cx="914760" cy="2385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" name="_s1033"/>
            <p:cNvCxnSpPr>
              <a:stCxn id="70" idx="1"/>
              <a:endCxn id="60" idx="2"/>
            </p:cNvCxnSpPr>
            <p:nvPr/>
          </p:nvCxnSpPr>
          <p:spPr>
            <a:xfrm rot="10800000">
              <a:off x="2742120" y="595440"/>
              <a:ext cx="914760" cy="149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" name="_s1034"/>
            <p:cNvCxnSpPr>
              <a:stCxn id="72" idx="1"/>
              <a:endCxn id="60" idx="2"/>
            </p:cNvCxnSpPr>
            <p:nvPr/>
          </p:nvCxnSpPr>
          <p:spPr>
            <a:xfrm rot="10800000">
              <a:off x="2742120" y="595440"/>
              <a:ext cx="914760" cy="596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" name="_s1035"/>
            <p:cNvSpPr/>
            <p:nvPr/>
          </p:nvSpPr>
          <p:spPr>
            <a:xfrm>
              <a:off x="0" y="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490092"/>
                  </a:solidFill>
                  <a:latin typeface="Calisto MT"/>
                </a:rPr>
                <a:t>Способы закаливания: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36"/>
            <p:cNvSpPr/>
            <p:nvPr/>
          </p:nvSpPr>
          <p:spPr>
            <a:xfrm>
              <a:off x="3656880" y="8942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5f04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тир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_s1037"/>
            <p:cNvSpPr/>
            <p:nvPr/>
          </p:nvSpPr>
          <p:spPr>
            <a:xfrm>
              <a:off x="3656880" y="17888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ли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_s1038"/>
            <p:cNvSpPr/>
            <p:nvPr/>
          </p:nvSpPr>
          <p:spPr>
            <a:xfrm>
              <a:off x="3656880" y="26834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Воздуш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39"/>
            <p:cNvSpPr/>
            <p:nvPr/>
          </p:nvSpPr>
          <p:spPr>
            <a:xfrm>
              <a:off x="3656880" y="35776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Солнеч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40"/>
            <p:cNvSpPr/>
            <p:nvPr/>
          </p:nvSpPr>
          <p:spPr>
            <a:xfrm>
              <a:off x="3656880" y="44722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90092"/>
                  </a:solidFill>
                  <a:latin typeface="Agency FB"/>
                </a:rPr>
                <a:t>Купание в открытых водоёмах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1"/>
            <p:cNvSpPr/>
            <p:nvPr/>
          </p:nvSpPr>
          <p:spPr>
            <a:xfrm>
              <a:off x="3656880" y="53668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Босохожде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_s1042"/>
            <p:cNvSpPr/>
            <p:nvPr/>
          </p:nvSpPr>
          <p:spPr>
            <a:xfrm>
              <a:off x="3656880" y="6261480"/>
              <a:ext cx="547992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90092"/>
                  </a:solidFill>
                  <a:latin typeface="Agency FB"/>
                </a:rPr>
                <a:t>Морже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81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unga"/>
              </a:rPr>
              <a:t>ОБЛИ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140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unga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unga"/>
              </a:rPr>
              <a:t>Хорошим методом закаливания является обливание холодной водой. Для этого берут 2 – 3 ведра холодной воды желаемой температуры и выливают на всё тело. Основную роль при обливании играет температурное раздражение кожи, рефлекторно оказывает тонизирующее, дыхание. После обливания тело необходимо обтереть сухим полотенц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66ff"/>
                </a:solidFill>
                <a:uFillTx/>
                <a:latin typeface="Tahoma"/>
              </a:rPr>
              <a:t>Правила закаливания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79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 систематич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   индивидуальные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8000"/>
                </a:solidFill>
                <a:uFillTx/>
                <a:latin typeface="Tunga"/>
              </a:rPr>
              <a:t>КУПАНИЕ В ОТКРЫТЫХ ВОДОЁМА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00"/>
                </a:solidFill>
                <a:latin typeface="Tung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6600"/>
                </a:solidFill>
                <a:uFillTx/>
                <a:latin typeface="Tunga"/>
              </a:rPr>
              <a:t>МОРЖЕ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unga"/>
              </a:rPr>
              <a:t>  </a:t>
            </a:r>
            <a:r>
              <a:rPr b="0" i="1" lang="ru-RU" sz="3200" spc="-1" strike="noStrike">
                <a:solidFill>
                  <a:srgbClr val="ff6600"/>
                </a:solidFill>
                <a:latin typeface="Tunga"/>
              </a:rPr>
              <a:t>Наиболее эффективной водной процедурой является купание в ледяной воде. Однако подготовка к этому требует специальной тренировки и знаний физиологических процессов, проходящих в организме человека при купании в ледяной воде. Это высшая форма закаливания, так как в короткое время подключает к борьбе «за выживание» все органы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СОЛНЕЧНЫЕ</a:t>
            </a:r>
            <a:r>
              <a:rPr b="0" lang="ru-RU" sz="4400" spc="-1" strike="noStrike" u="sng">
                <a:solidFill>
                  <a:srgbClr val="ff3300"/>
                </a:solidFill>
                <a:uFillTx/>
                <a:latin typeface="Tunga"/>
              </a:rPr>
              <a:t> </a:t>
            </a: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ВАННЫ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651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0000"/>
                </a:solidFill>
                <a:latin typeface="Tunga"/>
              </a:rPr>
              <a:t>Этот тип закаливания следует принимать разумно, иначе вместо пользы они могут вызвать ожоги кожи, перегрев организма, солнечный удар, перевозбуждение нервной системы. Прием солнечных ванн целесообразно сочетать с водными процедурами. После приёма рекомендуется 10 – 15 минут побыть в тени, а затем принять душ или искупать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2:35:41Z</dcterms:created>
  <dc:creator>костян</dc:creator>
  <dc:description/>
  <dc:language>en-US</dc:language>
  <cp:lastModifiedBy>LEGION</cp:lastModifiedBy>
  <dcterms:modified xsi:type="dcterms:W3CDTF">2015-02-13T11:06:39Z</dcterms:modified>
  <cp:revision>12</cp:revision>
  <dc:subject/>
  <dc:title>Закаливание организма и его влияние на здоровье человека</dc:title>
</cp:coreProperties>
</file>